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1C123-5B99-4487-ADB0-BA4BA583B0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xam Questions on </a:t>
            </a:r>
            <a:br>
              <a:rPr sz="1200"/>
            </a:br>
            <a:r>
              <a:rPr b="0" lang="en-US" sz="1200" spc="-1" strike="noStrike">
                <a:solidFill>
                  <a:srgbClr val="000000"/>
                </a:solidFill>
                <a:latin typeface="Arial"/>
              </a:rPr>
              <a:t>Of Mice and Me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B English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xam Questions on </a:t>
            </a:r>
            <a:br>
              <a:rPr sz="1200"/>
            </a:br>
            <a:r>
              <a:rPr b="0" lang="en-US" sz="1200" spc="-1" strike="noStrike">
                <a:solidFill>
                  <a:srgbClr val="000000"/>
                </a:solidFill>
                <a:latin typeface="Arial"/>
              </a:rPr>
              <a:t>Of Mice and M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B English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 Top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Table of Cont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See MODEL ANSWER</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incident where Lennie crushes Curley's hand. What does this incident reveal about each of these two character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haracter do you feel most sorry for in this story? Explain your choice by referring closely to the events of the novel.</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Table of Cont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See MODEL ANSWER</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incident where Lennie crushes Curley's hand. What does this incident reveal about each of these two character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haracter do you feel most sorry for in this story? Explain your choice by referring closely to the events of the novel.</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does Steinbeck create a sense of insecurity in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some characters may feel insec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s of langu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contribution of the sett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ther features which create a sense of insecu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does Steinbeck create a sense of insecurity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some characters may feel insec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s of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contribution of th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ther features which create a sense of in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ends where it begins, with George and Lenny, alone by the po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response to the ending of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r feelings about George’s decision to shoot Le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ys in which Steinbeck prepares us for this 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chooses to end the story in this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the ending suggests that the friendship between George and Lenny was point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ends where it begins, with George and Lenny, alone by the p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response to the ending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r feelings about George’s decision to shoot Le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ys in which Steinbeck prepares us for this 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chooses to end the story in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the ending suggests that the friendship between George and Lenny was point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es and dreams help people to survive, even if they can never become r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rue is this for characters in Of Mice and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es and dreams help people to survive, even if they can never become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rue is this for characters in 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 how John Steinbeck explores the complex relationship between George and Lenni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keeps them together, and the difficulties they each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brings out differences between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y are different from other people on the fa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Steinbeck’s purpose was in writing about this relation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 how John Steinbeck explores the complex relationship between George and Len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keeps them together, and the difficulties they each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brings out differences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y are different from other people on the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Steinbeck’s purpose was in writing about this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yourself of the description of Lennie’s fight with Curley in the extract belo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the importance of this passage in Of Mice and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t aspects of Lennie shown in the pass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s revealed about the relationship between George and      Lennie, and about Cur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is passage links with other parts of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importance of the passage in the novel as a wh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yourself of the description of Lennie’s fight with Curley in the extract be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the importance of this passage in 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t aspects of Lennie shown in the pa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s revealed about the relationship between George and      Lennie, and about Cur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is passage links with other parts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importance of the passage in the novel as a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characters in Of Mice and Men are shown to be lon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loneliness in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racters who are lon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 shows their lonel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ces and similarities between lonely charac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the writer is saying about lonel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characters in Of Mice and Men are shown to be 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loneliness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racters who are 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 shows their 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ces and similarities between lonely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the writer is saying about 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d the passage in the novel where Lennie kills Curley’s wife, from the description of the barn to the point when Lennie leaves to go to the bru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begins this passage with the dead pup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Lennie and Curley’s wife behave in the way they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makes the death seem unavoid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you were surprised when you first read about her death, and 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d the passage in the novel where Lennie kills Curley’s wife, from the description of the barn to the point when Lennie leaves to go to the bru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begins this passage with the dead pup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Lennie and Curley’s wife behave in the way the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makes the death seem unavoi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you were surprised when you first read about her death,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shows us that people can be cruel, or kind, or sometimes a mixture of b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ree charac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ays in which the different characters are cruel, or kind, or a mixture of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y behave as they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you respond to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Steinbeck writes about them to make you respond this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shows us that people can be cruel, or kind, or sometimes a mixture of b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re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ays in which the different characters are cruel, or kind, or a mixture of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y behave as the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you respond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Steinbeck writes about them to make you respond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BDE68-F5B8-4235-936C-D32A25EC1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0F090-AEA7-4F5B-8C6B-2DCEA2824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B6A3A-C0BD-4DDC-8027-26BB6DB06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D7A71-2CCB-4635-BECD-B21B307C1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E13AEE-2289-4D49-9283-22B969CA5D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C3E5D-3B74-4B53-A779-1E2448127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34BC7-02A1-4377-81EC-5B4E69B73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64570-B806-4C2F-94A8-733B6D22F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48E09-0CE4-4CA3-9085-BA49AE45F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16458-CCD6-4DF8-94A9-65E3892A2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5D65E-D5F0-493D-AC90-9DBD27A36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42503-DAC0-439E-9F0F-1C6CD724D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3F320-F2E0-4D71-9827-0E1020649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FB53B-5B17-47E5-A966-F800E3D52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DF51E-4909-4861-A2EF-B677D21CE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6B0EB-3FBE-4EED-9C59-E19CAF47ED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20556B-4DF1-497E-B21D-8BEB96B46C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295BA-F371-42DF-95DA-997FE177B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8AB09-CE02-42C0-81FE-7F4639BAC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B5B27-66AF-4DD5-A4F4-0446229D8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39D08-A329-48F5-ACD1-34A434A9E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DF3A0-275D-4AED-B3DD-444A81359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9A7B8-10A1-4F39-836F-2C45BCADD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6B972-3442-48CB-80BA-176DBF4B0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8D7CA-498D-467E-9CD2-9A1D784E821C}"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F5486-93EC-4488-9D14-99721582D70D}"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ewi.ac.uk/englishresources/workunits/ks4/fiction/ofmicemen/smallheath/sample.html"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en-GB" sz="4200" spc="-1" strike="noStrike">
                <a:solidFill>
                  <a:srgbClr val="ffffff"/>
                </a:solidFill>
                <a:latin typeface="Arial"/>
              </a:rPr>
              <a:t>Exam Questions on </a:t>
            </a:r>
            <a:br>
              <a:rPr sz="4200"/>
            </a:br>
            <a:r>
              <a:rPr b="1" i="1" lang="en-GB" sz="4200" spc="-1" strike="noStrike">
                <a:solidFill>
                  <a:srgbClr val="ffffff"/>
                </a:solidFill>
                <a:latin typeface="Arial"/>
              </a:rPr>
              <a:t>Of Mice and Men</a:t>
            </a:r>
            <a:br>
              <a:rPr sz="4200"/>
            </a:br>
            <a:endParaRPr b="0" lang="en-US" sz="42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NEAB English Lit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09480" y="533520"/>
            <a:ext cx="7925040" cy="5486400"/>
          </a:xfrm>
          <a:prstGeom prst="rect">
            <a:avLst/>
          </a:prstGeom>
          <a:noFill/>
          <a:ln w="0">
            <a:noFill/>
          </a:ln>
        </p:spPr>
        <p:txBody>
          <a:bodyPr anchor="t">
            <a:normAutofit/>
          </a:bodyPr>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am Topics</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ck to Table of Contents</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a:t>
            </a:r>
            <a:r>
              <a:rPr b="0" lang="en-GB" sz="1200" spc="-1" strike="noStrike" u="sng">
                <a:solidFill>
                  <a:srgbClr val="996666"/>
                </a:solidFill>
                <a:uFillTx/>
                <a:latin typeface="Arial"/>
                <a:hlinkClick r:id="rId1"/>
              </a:rPr>
              <a:t>See MODEL ANSWER</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e in some detail the incident where Lennie crushes Curley's hand. What does this incident reveal about each of these two characters?</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character do you feel most sorry for in this story? Explain your choice by referring closely to the events of the novel.</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How does Steinbeck create a sense of insecurity in the novel?</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You should write abou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Why some characters may feel insecur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Uses of languag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The contribution of the setting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Other features which create a sense of in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omic Sans MS"/>
              </a:rPr>
              <a:t>	</a:t>
            </a:r>
            <a:r>
              <a:rPr b="0" i="1" lang="en-GB" sz="2000" spc="-1" strike="noStrike">
                <a:solidFill>
                  <a:srgbClr val="000000"/>
                </a:solidFill>
                <a:latin typeface="Comic Sans MS"/>
              </a:rPr>
              <a:t>Of Mice and Men</a:t>
            </a:r>
            <a:r>
              <a:rPr b="0" lang="en-GB" sz="2000" spc="-1" strike="noStrike">
                <a:solidFill>
                  <a:srgbClr val="000000"/>
                </a:solidFill>
                <a:latin typeface="Comic Sans MS"/>
              </a:rPr>
              <a:t> ends where it begins, with George and Lenny, alone by the poo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at is your response to the ending of the nove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Your feelings about George’s decision to shoot Lenn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ays in which Steinbeck prepares us for this end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y the writer chooses to end the story in this wa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ether the ending suggests that the friendship between George and Lenny was pointl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pes and dreams help people to survive, even if they can never become re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true is this for characters in </a:t>
            </a:r>
            <a:r>
              <a:rPr b="0" i="1" lang="en-GB" sz="3200" spc="-1" strike="noStrike">
                <a:solidFill>
                  <a:srgbClr val="000000"/>
                </a:solidFill>
                <a:latin typeface="Arial"/>
              </a:rPr>
              <a:t>Of Mice and Men</a:t>
            </a:r>
            <a:r>
              <a:rPr b="0" lang="en-GB"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7"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Show how John Steinbeck explores the complex relationship between George and Lennie.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 should write about:</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keeps them together, and the difficulties they each have</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r brings out differences between them</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y are different from other people on the farm</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you think Steinbeck’s purpose was in writing about this relationsh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Remind yourself of the description of Lennie’s fight with Curley in the extract below.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 the importance of this passage in Of Mice and Me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different aspects of Lennie shown in the passag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at is revealed about the relationship between George and      Lennie, and about Curle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this passage links with other parts of the novel</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importance of the passage in the novel as a who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Many characters in </a:t>
            </a:r>
            <a:r>
              <a:rPr b="0" i="1" lang="en-GB" sz="2400" spc="-1" strike="noStrike">
                <a:solidFill>
                  <a:srgbClr val="000000"/>
                </a:solidFill>
                <a:latin typeface="Comic Sans MS"/>
              </a:rPr>
              <a:t>Of Mice and Men</a:t>
            </a:r>
            <a:r>
              <a:rPr b="0" lang="en-GB" sz="2400" spc="-1" strike="noStrike">
                <a:solidFill>
                  <a:srgbClr val="000000"/>
                </a:solidFill>
                <a:latin typeface="Comic Sans MS"/>
              </a:rPr>
              <a:t> are shown to be lonely.</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rite about loneliness in the novel.</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 should write about:</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Characters who are lonely</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 shows their lonelines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The differences and similarities between lonely character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you think the writer is saying about loneli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Find the passage in the novel where Lennie kills Curley’s wife, from the description of the barn to the point when Lennie leaves to go to the brush.</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rite about:</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y the writer begins this passage with the dead puppy</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y Lennie and Curley’s wife behave in the way they do</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r makes the death seem unavoidable</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ether you were surprised when you first read about her death, and 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Of Mice and Men shows us that people can be cruel, or kind, or sometimes a mixture of bot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ompare three charact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ways in which the different characters are cruel, or kind, or a mixture of bo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y they behave as they 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you respond to th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Steinbeck writes about them to make you respond this way</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8T09:25:18Z</dcterms:created>
  <dc:creator>svanvlo</dc:creator>
  <dc:description/>
  <dc:language>en-US</dc:language>
  <cp:lastModifiedBy>RomaK</cp:lastModifiedBy>
  <dcterms:modified xsi:type="dcterms:W3CDTF">2015-09-04T10:35:48Z</dcterms:modified>
  <cp:revision>8</cp:revision>
  <dc:subject/>
  <dc:title> Exam Questions on  Of Mice and Men </dc:title>
</cp:coreProperties>
</file>